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E92-2A8B-401E-AE9B-3CA202C4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7626-6E6A-4515-93B2-5092A878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4730-4502-4E68-AB0F-F714DD3E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15BE-DC24-4DD0-B4E7-6FB49554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7C26-FDE5-4E15-80A5-300797B8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37B2-E180-4BB7-9ECA-32314D74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DDEA-C54A-428F-93BE-0393A3B0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FFD1-2A07-4088-BC33-E9F6CB54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338A-1F85-4E53-8C93-75730DA2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609480"/>
            <a:ext cx="62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5BA8-EAF9-4237-9439-477F66FA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1D52-8FB3-44C6-9EB5-8F8F9E3A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027-32C5-4A78-B7B7-889A3B3C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662C-BBBF-42DD-9466-9DE51BD3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520F-3CE9-4A12-B5EC-BD147025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4BF4-75C5-462B-B0B5-AA311E41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5C0A-B729-4A90-ACE4-C9AC45B1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CE40-3CDC-4511-BC16-B2B15BB8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E5E-389F-484C-B5EF-486C9106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E8D-8904-4044-9A96-19AB7183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76E-8F6F-4654-9605-60558688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7920" y="609480"/>
            <a:ext cx="62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DE81-5154-4618-97F9-574FFF1F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ECD-274D-4C86-A9F7-0C7D3FE3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8F2-F296-44F9-87E8-EC229617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AE97-1423-4510-A257-68049848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7"/>
          <p:cNvGraphicFramePr/>
          <p:nvPr/>
        </p:nvGraphicFramePr>
        <p:xfrm>
          <a:off x="0" y="0"/>
          <a:ext cx="914400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18"/>
          <p:cNvSpPr/>
          <p:nvPr/>
        </p:nvSpPr>
        <p:spPr>
          <a:xfrm>
            <a:off x="304920" y="609480"/>
            <a:ext cx="8839080" cy="5335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22a2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9360" y="1114560"/>
            <a:ext cx="9144000" cy="75960"/>
          </a:xfrm>
          <a:prstGeom prst="rect">
            <a:avLst/>
          </a:prstGeom>
          <a:gradFill rotWithShape="0">
            <a:gsLst>
              <a:gs pos="0">
                <a:srgbClr val="184bb2"/>
              </a:gs>
              <a:gs pos="100000">
                <a:srgbClr val="091d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7973-BDCE-4684-9E26-0F89BEE6A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8131320" y="2570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" name="AutoShape 14"/>
          <p:cNvSpPr/>
          <p:nvPr/>
        </p:nvSpPr>
        <p:spPr>
          <a:xfrm rot="5400000">
            <a:off x="8447040" y="-18576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3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0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gradFill rotWithShape="0">
            <a:gsLst>
              <a:gs pos="0">
                <a:srgbClr val="184bb2"/>
              </a:gs>
              <a:gs pos="100000">
                <a:srgbClr val="091d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" name="Line 21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50" name="Text Box 14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767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1" name="AutoShape 15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2a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534000"/>
            <a:ext cx="289584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BCAB-217E-4082-9A9B-552CE7FB89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73e3"/>
                </a:solidFill>
                <a:latin typeface="Arial"/>
              </a:rPr>
              <a:t>Slide</a:t>
            </a:r>
            <a:r>
              <a:rPr b="1" lang="en-US" sz="4400" spc="-1" strike="noStrike">
                <a:solidFill>
                  <a:srgbClr val="132767"/>
                </a:solidFill>
                <a:latin typeface="Arial"/>
              </a:rPr>
              <a:t> Power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4bb2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291636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2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65164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5a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aba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55aba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636912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e5d5b"/>
              </a:gs>
              <a:gs pos="50000">
                <a:srgbClr val="55aba9"/>
              </a:gs>
              <a:gs pos="100000">
                <a:srgbClr val="2e5d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6400800" y="2209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66d6b"/>
              </a:gs>
              <a:gs pos="100000">
                <a:srgbClr val="55aba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64706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cca4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cca4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896760" y="2192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76d24"/>
              </a:gs>
              <a:gs pos="50000">
                <a:srgbClr val="dcca42"/>
              </a:gs>
              <a:gs pos="100000">
                <a:srgbClr val="776d2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898560" y="21956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c802a"/>
              </a:gs>
              <a:gs pos="100000">
                <a:srgbClr val="dcca4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990720" y="22860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1017720" y="2311560"/>
            <a:ext cx="1636560" cy="1636560"/>
            <a:chOff x="1017720" y="2311560"/>
            <a:chExt cx="1636560" cy="1636560"/>
          </a:xfrm>
        </p:grpSpPr>
        <p:sp>
          <p:nvSpPr>
            <p:cNvPr id="257" name="Oval 16"/>
            <p:cNvSpPr/>
            <p:nvPr/>
          </p:nvSpPr>
          <p:spPr>
            <a:xfrm>
              <a:off x="101772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103824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105552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114444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61" name="Oval 20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22a2e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22a2e2">
                  <a:alpha val="32156"/>
                </a:srgbClr>
              </a:gs>
              <a:gs pos="100000">
                <a:srgbClr val="104b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3" name="Oval 22"/>
          <p:cNvSpPr/>
          <p:nvPr/>
        </p:nvSpPr>
        <p:spPr>
          <a:xfrm>
            <a:off x="363384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2587a"/>
              </a:gs>
              <a:gs pos="50000">
                <a:srgbClr val="22a2e2"/>
              </a:gs>
              <a:gs pos="100000">
                <a:srgbClr val="1258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4" name="Oval 23"/>
          <p:cNvSpPr/>
          <p:nvPr/>
        </p:nvSpPr>
        <p:spPr>
          <a:xfrm>
            <a:off x="3635280" y="2201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66790"/>
              </a:gs>
              <a:gs pos="100000">
                <a:srgbClr val="22a2e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5" name="Oval 24"/>
          <p:cNvSpPr/>
          <p:nvPr/>
        </p:nvSpPr>
        <p:spPr>
          <a:xfrm>
            <a:off x="37274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66" name="Group 25"/>
          <p:cNvGrpSpPr/>
          <p:nvPr/>
        </p:nvGrpSpPr>
        <p:grpSpPr>
          <a:xfrm>
            <a:off x="3754440" y="2311560"/>
            <a:ext cx="1636560" cy="1636560"/>
            <a:chOff x="3754440" y="2311560"/>
            <a:chExt cx="1636560" cy="1636560"/>
          </a:xfrm>
        </p:grpSpPr>
        <p:sp>
          <p:nvSpPr>
            <p:cNvPr id="267" name="Oval 26"/>
            <p:cNvSpPr/>
            <p:nvPr/>
          </p:nvSpPr>
          <p:spPr>
            <a:xfrm>
              <a:off x="375444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377496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379224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388116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6500880" y="2311560"/>
            <a:ext cx="1636560" cy="1636560"/>
            <a:chOff x="6500880" y="2311560"/>
            <a:chExt cx="1636560" cy="1636560"/>
          </a:xfrm>
        </p:grpSpPr>
        <p:sp>
          <p:nvSpPr>
            <p:cNvPr id="272" name="Oval 31"/>
            <p:cNvSpPr/>
            <p:nvPr/>
          </p:nvSpPr>
          <p:spPr>
            <a:xfrm>
              <a:off x="650088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3" name="Oval 32"/>
            <p:cNvSpPr/>
            <p:nvPr/>
          </p:nvSpPr>
          <p:spPr>
            <a:xfrm>
              <a:off x="652140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653868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5" name="Oval 34"/>
            <p:cNvSpPr/>
            <p:nvPr/>
          </p:nvSpPr>
          <p:spPr>
            <a:xfrm>
              <a:off x="662760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76" name="AutoShape 35"/>
          <p:cNvSpPr/>
          <p:nvPr/>
        </p:nvSpPr>
        <p:spPr>
          <a:xfrm>
            <a:off x="8049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353844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2913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14522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1954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69386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55aba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4" name="Text Box 32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4bb2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5" name="Oval 34"/>
          <p:cNvSpPr/>
          <p:nvPr/>
        </p:nvSpPr>
        <p:spPr>
          <a:xfrm rot="20876400">
            <a:off x="35449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6" name="Oval 35"/>
          <p:cNvSpPr/>
          <p:nvPr/>
        </p:nvSpPr>
        <p:spPr>
          <a:xfrm>
            <a:off x="34765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7" name="Oval 36"/>
          <p:cNvSpPr/>
          <p:nvPr/>
        </p:nvSpPr>
        <p:spPr>
          <a:xfrm>
            <a:off x="34974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8" name="Oval 37"/>
          <p:cNvSpPr/>
          <p:nvPr/>
        </p:nvSpPr>
        <p:spPr>
          <a:xfrm>
            <a:off x="35146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9" name="Oval 38"/>
          <p:cNvSpPr/>
          <p:nvPr/>
        </p:nvSpPr>
        <p:spPr>
          <a:xfrm>
            <a:off x="36068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0" name="Text Box 39"/>
          <p:cNvSpPr/>
          <p:nvPr/>
        </p:nvSpPr>
        <p:spPr>
          <a:xfrm>
            <a:off x="38944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1" name="Oval 40"/>
          <p:cNvSpPr/>
          <p:nvPr/>
        </p:nvSpPr>
        <p:spPr>
          <a:xfrm rot="20826600">
            <a:off x="17017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92" name="Group 41"/>
          <p:cNvGrpSpPr/>
          <p:nvPr/>
        </p:nvGrpSpPr>
        <p:grpSpPr>
          <a:xfrm>
            <a:off x="1625760" y="3371760"/>
            <a:ext cx="1371240" cy="1441080"/>
            <a:chOff x="1625760" y="3371760"/>
            <a:chExt cx="1371240" cy="1441080"/>
          </a:xfrm>
        </p:grpSpPr>
        <p:sp>
          <p:nvSpPr>
            <p:cNvPr id="293" name="Oval 42"/>
            <p:cNvSpPr/>
            <p:nvPr/>
          </p:nvSpPr>
          <p:spPr>
            <a:xfrm>
              <a:off x="16257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4" name="Oval 43"/>
            <p:cNvSpPr/>
            <p:nvPr/>
          </p:nvSpPr>
          <p:spPr>
            <a:xfrm>
              <a:off x="16434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5" name="Oval 44"/>
            <p:cNvSpPr/>
            <p:nvPr/>
          </p:nvSpPr>
          <p:spPr>
            <a:xfrm>
              <a:off x="16567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6" name="Oval 45"/>
            <p:cNvSpPr/>
            <p:nvPr/>
          </p:nvSpPr>
          <p:spPr>
            <a:xfrm>
              <a:off x="17283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7" name="Text Box 46"/>
            <p:cNvSpPr/>
            <p:nvPr/>
          </p:nvSpPr>
          <p:spPr>
            <a:xfrm>
              <a:off x="19062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98" name="Oval 47"/>
          <p:cNvSpPr/>
          <p:nvPr/>
        </p:nvSpPr>
        <p:spPr>
          <a:xfrm>
            <a:off x="15238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9" name="Oval 48"/>
          <p:cNvSpPr/>
          <p:nvPr/>
        </p:nvSpPr>
        <p:spPr>
          <a:xfrm>
            <a:off x="16002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0" name="Oval 49"/>
          <p:cNvSpPr/>
          <p:nvPr/>
        </p:nvSpPr>
        <p:spPr>
          <a:xfrm>
            <a:off x="16128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1" name="Oval 50"/>
          <p:cNvSpPr/>
          <p:nvPr/>
        </p:nvSpPr>
        <p:spPr>
          <a:xfrm>
            <a:off x="16239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16779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3" name="Text Box 52"/>
          <p:cNvSpPr/>
          <p:nvPr/>
        </p:nvSpPr>
        <p:spPr>
          <a:xfrm>
            <a:off x="17971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4" name="Oval 53"/>
          <p:cNvSpPr/>
          <p:nvPr/>
        </p:nvSpPr>
        <p:spPr>
          <a:xfrm>
            <a:off x="27907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29131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29224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29289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29653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9" name="Text Box 58"/>
          <p:cNvSpPr/>
          <p:nvPr/>
        </p:nvSpPr>
        <p:spPr>
          <a:xfrm>
            <a:off x="29833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2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7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184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19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0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1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2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3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4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5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7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8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9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30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1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2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33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4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5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336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aba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7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5aba9">
                  <a:alpha val="32156"/>
                </a:srgbClr>
              </a:gs>
              <a:gs pos="100000">
                <a:srgbClr val="274f4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8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e5d5b"/>
              </a:gs>
              <a:gs pos="50000">
                <a:srgbClr val="55aba9"/>
              </a:gs>
              <a:gs pos="100000">
                <a:srgbClr val="2e5d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9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66d6b"/>
              </a:gs>
              <a:gs pos="100000">
                <a:srgbClr val="55aba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340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1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2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3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4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5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346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7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8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2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5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6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7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8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9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0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61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2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3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4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5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6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67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69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0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1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2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3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4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5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6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7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8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9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0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1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2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83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4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5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6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7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88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89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0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1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2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3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94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6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7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0" y="27255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0" y="277812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01" name="Group 5"/>
          <p:cNvGrpSpPr/>
          <p:nvPr/>
        </p:nvGrpSpPr>
        <p:grpSpPr>
          <a:xfrm>
            <a:off x="4906440" y="3050640"/>
            <a:ext cx="1703520" cy="2679120"/>
            <a:chOff x="4906440" y="3050640"/>
            <a:chExt cx="1703520" cy="2679120"/>
          </a:xfrm>
        </p:grpSpPr>
        <p:grpSp>
          <p:nvGrpSpPr>
            <p:cNvPr id="402" name="Group 6"/>
            <p:cNvGrpSpPr/>
            <p:nvPr/>
          </p:nvGrpSpPr>
          <p:grpSpPr>
            <a:xfrm>
              <a:off x="4906440" y="3229200"/>
              <a:ext cx="1577160" cy="2500560"/>
              <a:chOff x="4906440" y="3229200"/>
              <a:chExt cx="1577160" cy="2500560"/>
            </a:xfrm>
          </p:grpSpPr>
          <p:sp>
            <p:nvSpPr>
              <p:cNvPr id="403" name="Freeform 7"/>
              <p:cNvSpPr/>
              <p:nvPr/>
            </p:nvSpPr>
            <p:spPr>
              <a:xfrm rot="3876600">
                <a:off x="444312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04" name="Freeform 8"/>
              <p:cNvSpPr/>
              <p:nvPr/>
            </p:nvSpPr>
            <p:spPr>
              <a:xfrm rot="3876600">
                <a:off x="594756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9"/>
            <p:cNvGrpSpPr/>
            <p:nvPr/>
          </p:nvGrpSpPr>
          <p:grpSpPr>
            <a:xfrm>
              <a:off x="5400000" y="3050640"/>
              <a:ext cx="1209960" cy="1918800"/>
              <a:chOff x="5400000" y="3050640"/>
              <a:chExt cx="1209960" cy="1918800"/>
            </a:xfrm>
          </p:grpSpPr>
          <p:sp>
            <p:nvSpPr>
              <p:cNvPr id="406" name="Freeform 10"/>
              <p:cNvSpPr/>
              <p:nvPr/>
            </p:nvSpPr>
            <p:spPr>
              <a:xfrm flipV="1" rot="3876600">
                <a:off x="5044320" y="37962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07" name="Freeform 11"/>
              <p:cNvSpPr/>
              <p:nvPr/>
            </p:nvSpPr>
            <p:spPr>
              <a:xfrm flipV="1" rot="3876600">
                <a:off x="6181560" y="45471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2"/>
          <p:cNvGrpSpPr/>
          <p:nvPr/>
        </p:nvGrpSpPr>
        <p:grpSpPr>
          <a:xfrm>
            <a:off x="4427640" y="2128680"/>
            <a:ext cx="1439640" cy="1439640"/>
            <a:chOff x="4427640" y="2128680"/>
            <a:chExt cx="1439640" cy="1439640"/>
          </a:xfrm>
        </p:grpSpPr>
        <p:sp>
          <p:nvSpPr>
            <p:cNvPr id="409" name="Oval 13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0" name="Oval 14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1" name="Oval 15"/>
            <p:cNvSpPr/>
            <p:nvPr/>
          </p:nvSpPr>
          <p:spPr>
            <a:xfrm>
              <a:off x="452268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2" name="Oval 16"/>
            <p:cNvSpPr/>
            <p:nvPr/>
          </p:nvSpPr>
          <p:spPr>
            <a:xfrm>
              <a:off x="452268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3" name="Oval 17"/>
            <p:cNvSpPr/>
            <p:nvPr/>
          </p:nvSpPr>
          <p:spPr>
            <a:xfrm>
              <a:off x="458460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14" name="Group 18"/>
            <p:cNvGrpSpPr/>
            <p:nvPr/>
          </p:nvGrpSpPr>
          <p:grpSpPr>
            <a:xfrm>
              <a:off x="4602240" y="2303280"/>
              <a:ext cx="1090440" cy="1092240"/>
              <a:chOff x="4602240" y="2303280"/>
              <a:chExt cx="1090440" cy="1092240"/>
            </a:xfrm>
          </p:grpSpPr>
          <p:sp>
            <p:nvSpPr>
              <p:cNvPr id="415" name="Oval 19"/>
              <p:cNvSpPr/>
              <p:nvPr/>
            </p:nvSpPr>
            <p:spPr>
              <a:xfrm>
                <a:off x="460224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6" name="Oval 20"/>
              <p:cNvSpPr/>
              <p:nvPr/>
            </p:nvSpPr>
            <p:spPr>
              <a:xfrm>
                <a:off x="461592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7" name="Oval 21"/>
              <p:cNvSpPr/>
              <p:nvPr/>
            </p:nvSpPr>
            <p:spPr>
              <a:xfrm>
                <a:off x="462744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8" name="Oval 22"/>
              <p:cNvSpPr/>
              <p:nvPr/>
            </p:nvSpPr>
            <p:spPr>
              <a:xfrm>
                <a:off x="468648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23"/>
          <p:cNvGrpSpPr/>
          <p:nvPr/>
        </p:nvGrpSpPr>
        <p:grpSpPr>
          <a:xfrm>
            <a:off x="7138440" y="3123720"/>
            <a:ext cx="1703520" cy="2679120"/>
            <a:chOff x="7138440" y="3123720"/>
            <a:chExt cx="1703520" cy="2679120"/>
          </a:xfrm>
        </p:grpSpPr>
        <p:grpSp>
          <p:nvGrpSpPr>
            <p:cNvPr id="420" name="Group 24"/>
            <p:cNvGrpSpPr/>
            <p:nvPr/>
          </p:nvGrpSpPr>
          <p:grpSpPr>
            <a:xfrm>
              <a:off x="7138440" y="3302280"/>
              <a:ext cx="1577160" cy="2500560"/>
              <a:chOff x="7138440" y="3302280"/>
              <a:chExt cx="1577160" cy="2500560"/>
            </a:xfrm>
          </p:grpSpPr>
          <p:sp>
            <p:nvSpPr>
              <p:cNvPr id="421" name="Freeform 25"/>
              <p:cNvSpPr/>
              <p:nvPr/>
            </p:nvSpPr>
            <p:spPr>
              <a:xfrm rot="3876600">
                <a:off x="6675120" y="42735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2" name="Freeform 26"/>
              <p:cNvSpPr/>
              <p:nvPr/>
            </p:nvSpPr>
            <p:spPr>
              <a:xfrm rot="3876600">
                <a:off x="8179560" y="524196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27"/>
            <p:cNvGrpSpPr/>
            <p:nvPr/>
          </p:nvGrpSpPr>
          <p:grpSpPr>
            <a:xfrm>
              <a:off x="7632000" y="3123720"/>
              <a:ext cx="1209960" cy="1918800"/>
              <a:chOff x="7632000" y="3123720"/>
              <a:chExt cx="1209960" cy="1918800"/>
            </a:xfrm>
          </p:grpSpPr>
          <p:sp>
            <p:nvSpPr>
              <p:cNvPr id="424" name="Freeform 28"/>
              <p:cNvSpPr/>
              <p:nvPr/>
            </p:nvSpPr>
            <p:spPr>
              <a:xfrm flipV="1" rot="3876600">
                <a:off x="7276320" y="38692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5" name="Freeform 29"/>
              <p:cNvSpPr/>
              <p:nvPr/>
            </p:nvSpPr>
            <p:spPr>
              <a:xfrm flipV="1" rot="3876600">
                <a:off x="8413560" y="46202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Oval 30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7" name="Oval 31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8" name="Oval 32"/>
          <p:cNvSpPr/>
          <p:nvPr/>
        </p:nvSpPr>
        <p:spPr>
          <a:xfrm>
            <a:off x="6558120" y="208296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9" name="Oval 33"/>
          <p:cNvSpPr/>
          <p:nvPr/>
        </p:nvSpPr>
        <p:spPr>
          <a:xfrm>
            <a:off x="6559560" y="2085840"/>
            <a:ext cx="1501920" cy="15004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30" name="Oval 34"/>
          <p:cNvSpPr/>
          <p:nvPr/>
        </p:nvSpPr>
        <p:spPr>
          <a:xfrm>
            <a:off x="6632640" y="215892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31" name="Group 35"/>
          <p:cNvGrpSpPr/>
          <p:nvPr/>
        </p:nvGrpSpPr>
        <p:grpSpPr>
          <a:xfrm>
            <a:off x="6653160" y="2179800"/>
            <a:ext cx="1311480" cy="1309680"/>
            <a:chOff x="6653160" y="2179800"/>
            <a:chExt cx="1311480" cy="1309680"/>
          </a:xfrm>
        </p:grpSpPr>
        <p:sp>
          <p:nvSpPr>
            <p:cNvPr id="432" name="Oval 36"/>
            <p:cNvSpPr/>
            <p:nvPr/>
          </p:nvSpPr>
          <p:spPr>
            <a:xfrm>
              <a:off x="6653160" y="217980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3" name="Oval 37"/>
            <p:cNvSpPr/>
            <p:nvPr/>
          </p:nvSpPr>
          <p:spPr>
            <a:xfrm>
              <a:off x="6669720" y="218700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4" name="Oval 38"/>
            <p:cNvSpPr/>
            <p:nvPr/>
          </p:nvSpPr>
          <p:spPr>
            <a:xfrm>
              <a:off x="6683400" y="219960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5" name="Oval 39"/>
            <p:cNvSpPr/>
            <p:nvPr/>
          </p:nvSpPr>
          <p:spPr>
            <a:xfrm>
              <a:off x="6754680" y="223308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436" name="Group 40"/>
          <p:cNvGrpSpPr/>
          <p:nvPr/>
        </p:nvGrpSpPr>
        <p:grpSpPr>
          <a:xfrm>
            <a:off x="2858760" y="3050280"/>
            <a:ext cx="1704240" cy="2679480"/>
            <a:chOff x="2858760" y="3050280"/>
            <a:chExt cx="1704240" cy="2679480"/>
          </a:xfrm>
        </p:grpSpPr>
        <p:grpSp>
          <p:nvGrpSpPr>
            <p:cNvPr id="437" name="Group 41"/>
            <p:cNvGrpSpPr/>
            <p:nvPr/>
          </p:nvGrpSpPr>
          <p:grpSpPr>
            <a:xfrm>
              <a:off x="2858760" y="3229200"/>
              <a:ext cx="1577160" cy="2500560"/>
              <a:chOff x="2858760" y="3229200"/>
              <a:chExt cx="1577160" cy="2500560"/>
            </a:xfrm>
          </p:grpSpPr>
          <p:sp>
            <p:nvSpPr>
              <p:cNvPr id="438" name="Freeform 42"/>
              <p:cNvSpPr/>
              <p:nvPr/>
            </p:nvSpPr>
            <p:spPr>
              <a:xfrm rot="3876600">
                <a:off x="239544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39" name="Freeform 43"/>
              <p:cNvSpPr/>
              <p:nvPr/>
            </p:nvSpPr>
            <p:spPr>
              <a:xfrm rot="3876600">
                <a:off x="389988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44"/>
            <p:cNvGrpSpPr/>
            <p:nvPr/>
          </p:nvGrpSpPr>
          <p:grpSpPr>
            <a:xfrm>
              <a:off x="3352680" y="3050280"/>
              <a:ext cx="1210320" cy="1918800"/>
              <a:chOff x="3352680" y="3050280"/>
              <a:chExt cx="1210320" cy="1918800"/>
            </a:xfrm>
          </p:grpSpPr>
          <p:sp>
            <p:nvSpPr>
              <p:cNvPr id="441" name="Freeform 45"/>
              <p:cNvSpPr/>
              <p:nvPr/>
            </p:nvSpPr>
            <p:spPr>
              <a:xfrm flipV="1" rot="3876600">
                <a:off x="299736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42" name="Freeform 46"/>
              <p:cNvSpPr/>
              <p:nvPr/>
            </p:nvSpPr>
            <p:spPr>
              <a:xfrm flipV="1" rot="3876600">
                <a:off x="413460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47"/>
          <p:cNvGrpSpPr/>
          <p:nvPr/>
        </p:nvGrpSpPr>
        <p:grpSpPr>
          <a:xfrm>
            <a:off x="2379600" y="2128680"/>
            <a:ext cx="1439640" cy="1439640"/>
            <a:chOff x="2379600" y="2128680"/>
            <a:chExt cx="1439640" cy="1439640"/>
          </a:xfrm>
        </p:grpSpPr>
        <p:sp>
          <p:nvSpPr>
            <p:cNvPr id="444" name="Oval 48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5" name="Oval 49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6" name="Oval 50"/>
            <p:cNvSpPr/>
            <p:nvPr/>
          </p:nvSpPr>
          <p:spPr>
            <a:xfrm>
              <a:off x="247464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7" name="Oval 51"/>
            <p:cNvSpPr/>
            <p:nvPr/>
          </p:nvSpPr>
          <p:spPr>
            <a:xfrm>
              <a:off x="247464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8" name="Oval 52"/>
            <p:cNvSpPr/>
            <p:nvPr/>
          </p:nvSpPr>
          <p:spPr>
            <a:xfrm>
              <a:off x="253656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49" name="Group 53"/>
            <p:cNvGrpSpPr/>
            <p:nvPr/>
          </p:nvGrpSpPr>
          <p:grpSpPr>
            <a:xfrm>
              <a:off x="2554200" y="2303280"/>
              <a:ext cx="1090440" cy="1092240"/>
              <a:chOff x="2554200" y="2303280"/>
              <a:chExt cx="1090440" cy="1092240"/>
            </a:xfrm>
          </p:grpSpPr>
          <p:sp>
            <p:nvSpPr>
              <p:cNvPr id="450" name="Oval 54"/>
              <p:cNvSpPr/>
              <p:nvPr/>
            </p:nvSpPr>
            <p:spPr>
              <a:xfrm>
                <a:off x="255420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1" name="Oval 55"/>
              <p:cNvSpPr/>
              <p:nvPr/>
            </p:nvSpPr>
            <p:spPr>
              <a:xfrm>
                <a:off x="256788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2" name="Oval 56"/>
              <p:cNvSpPr/>
              <p:nvPr/>
            </p:nvSpPr>
            <p:spPr>
              <a:xfrm>
                <a:off x="257940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3" name="Oval 57"/>
              <p:cNvSpPr/>
              <p:nvPr/>
            </p:nvSpPr>
            <p:spPr>
              <a:xfrm>
                <a:off x="263844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58"/>
          <p:cNvGrpSpPr/>
          <p:nvPr/>
        </p:nvGrpSpPr>
        <p:grpSpPr>
          <a:xfrm>
            <a:off x="875880" y="3050280"/>
            <a:ext cx="1704240" cy="2679480"/>
            <a:chOff x="875880" y="3050280"/>
            <a:chExt cx="1704240" cy="2679480"/>
          </a:xfrm>
        </p:grpSpPr>
        <p:grpSp>
          <p:nvGrpSpPr>
            <p:cNvPr id="455" name="Group 59"/>
            <p:cNvGrpSpPr/>
            <p:nvPr/>
          </p:nvGrpSpPr>
          <p:grpSpPr>
            <a:xfrm>
              <a:off x="875880" y="3229200"/>
              <a:ext cx="1577160" cy="2500560"/>
              <a:chOff x="875880" y="3229200"/>
              <a:chExt cx="1577160" cy="2500560"/>
            </a:xfrm>
          </p:grpSpPr>
          <p:sp>
            <p:nvSpPr>
              <p:cNvPr id="456" name="Freeform 60"/>
              <p:cNvSpPr/>
              <p:nvPr/>
            </p:nvSpPr>
            <p:spPr>
              <a:xfrm rot="3876600">
                <a:off x="41256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7" name="Freeform 61"/>
              <p:cNvSpPr/>
              <p:nvPr/>
            </p:nvSpPr>
            <p:spPr>
              <a:xfrm rot="3876600">
                <a:off x="191700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62"/>
            <p:cNvGrpSpPr/>
            <p:nvPr/>
          </p:nvGrpSpPr>
          <p:grpSpPr>
            <a:xfrm>
              <a:off x="1369800" y="3050280"/>
              <a:ext cx="1210320" cy="1918800"/>
              <a:chOff x="1369800" y="3050280"/>
              <a:chExt cx="1210320" cy="1918800"/>
            </a:xfrm>
          </p:grpSpPr>
          <p:sp>
            <p:nvSpPr>
              <p:cNvPr id="459" name="Freeform 63"/>
              <p:cNvSpPr/>
              <p:nvPr/>
            </p:nvSpPr>
            <p:spPr>
              <a:xfrm flipV="1" rot="3876600">
                <a:off x="101448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0" name="Freeform 64"/>
              <p:cNvSpPr/>
              <p:nvPr/>
            </p:nvSpPr>
            <p:spPr>
              <a:xfrm flipV="1" rot="3876600">
                <a:off x="215172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65"/>
          <p:cNvGrpSpPr/>
          <p:nvPr/>
        </p:nvGrpSpPr>
        <p:grpSpPr>
          <a:xfrm>
            <a:off x="396720" y="2128680"/>
            <a:ext cx="1439640" cy="1439640"/>
            <a:chOff x="396720" y="2128680"/>
            <a:chExt cx="1439640" cy="1439640"/>
          </a:xfrm>
        </p:grpSpPr>
        <p:sp>
          <p:nvSpPr>
            <p:cNvPr id="462" name="Oval 66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3" name="Oval 67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4" name="Oval 68"/>
            <p:cNvSpPr/>
            <p:nvPr/>
          </p:nvSpPr>
          <p:spPr>
            <a:xfrm>
              <a:off x="49176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5" name="Oval 69"/>
            <p:cNvSpPr/>
            <p:nvPr/>
          </p:nvSpPr>
          <p:spPr>
            <a:xfrm>
              <a:off x="49176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6" name="Oval 70"/>
            <p:cNvSpPr/>
            <p:nvPr/>
          </p:nvSpPr>
          <p:spPr>
            <a:xfrm>
              <a:off x="55368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67" name="Group 71"/>
            <p:cNvGrpSpPr/>
            <p:nvPr/>
          </p:nvGrpSpPr>
          <p:grpSpPr>
            <a:xfrm>
              <a:off x="571320" y="2303280"/>
              <a:ext cx="1090440" cy="1092240"/>
              <a:chOff x="571320" y="2303280"/>
              <a:chExt cx="1090440" cy="1092240"/>
            </a:xfrm>
          </p:grpSpPr>
          <p:sp>
            <p:nvSpPr>
              <p:cNvPr id="468" name="Oval 72"/>
              <p:cNvSpPr/>
              <p:nvPr/>
            </p:nvSpPr>
            <p:spPr>
              <a:xfrm>
                <a:off x="57132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9" name="Oval 73"/>
              <p:cNvSpPr/>
              <p:nvPr/>
            </p:nvSpPr>
            <p:spPr>
              <a:xfrm>
                <a:off x="58500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0" name="Oval 74"/>
              <p:cNvSpPr/>
              <p:nvPr/>
            </p:nvSpPr>
            <p:spPr>
              <a:xfrm>
                <a:off x="59652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1" name="Oval 75"/>
              <p:cNvSpPr/>
              <p:nvPr/>
            </p:nvSpPr>
            <p:spPr>
              <a:xfrm>
                <a:off x="65556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Text Box 76"/>
          <p:cNvSpPr/>
          <p:nvPr/>
        </p:nvSpPr>
        <p:spPr>
          <a:xfrm rot="3925800">
            <a:off x="8964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3" name="Text Box 77"/>
          <p:cNvSpPr/>
          <p:nvPr/>
        </p:nvSpPr>
        <p:spPr>
          <a:xfrm rot="3925800">
            <a:off x="14022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4" name="Text Box 78"/>
          <p:cNvSpPr/>
          <p:nvPr/>
        </p:nvSpPr>
        <p:spPr>
          <a:xfrm rot="3925800">
            <a:off x="28728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5" name="Text Box 79"/>
          <p:cNvSpPr/>
          <p:nvPr/>
        </p:nvSpPr>
        <p:spPr>
          <a:xfrm rot="3925800">
            <a:off x="33786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6" name="Text Box 80"/>
          <p:cNvSpPr/>
          <p:nvPr/>
        </p:nvSpPr>
        <p:spPr>
          <a:xfrm rot="3925800">
            <a:off x="49302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7" name="Text Box 81"/>
          <p:cNvSpPr/>
          <p:nvPr/>
        </p:nvSpPr>
        <p:spPr>
          <a:xfrm rot="3925800">
            <a:off x="54360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8" name="Text Box 82"/>
          <p:cNvSpPr/>
          <p:nvPr/>
        </p:nvSpPr>
        <p:spPr>
          <a:xfrm rot="3925800">
            <a:off x="7144920" y="423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9" name="Text Box 83"/>
          <p:cNvSpPr/>
          <p:nvPr/>
        </p:nvSpPr>
        <p:spPr>
          <a:xfrm rot="3925800">
            <a:off x="7650720" y="3943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0" name="Text Box 84"/>
          <p:cNvSpPr/>
          <p:nvPr/>
        </p:nvSpPr>
        <p:spPr>
          <a:xfrm>
            <a:off x="77796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1" name="Text Box 85"/>
          <p:cNvSpPr/>
          <p:nvPr/>
        </p:nvSpPr>
        <p:spPr>
          <a:xfrm>
            <a:off x="276840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2" name="Text Box 86"/>
          <p:cNvSpPr/>
          <p:nvPr/>
        </p:nvSpPr>
        <p:spPr>
          <a:xfrm>
            <a:off x="474984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3" name="Text Box 87"/>
          <p:cNvSpPr/>
          <p:nvPr/>
        </p:nvSpPr>
        <p:spPr>
          <a:xfrm>
            <a:off x="6795000" y="14367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cxnSp>
        <p:nvCxnSpPr>
          <p:cNvPr id="484" name="AutoShape 88"/>
          <p:cNvCxnSpPr>
            <a:stCxn id="480" idx="3"/>
            <a:endCxn id="481" idx="1"/>
          </p:cNvCxnSpPr>
          <p:nvPr/>
        </p:nvCxnSpPr>
        <p:spPr>
          <a:xfrm>
            <a:off x="1514160" y="1663200"/>
            <a:ext cx="1222920" cy="108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  <p:cxnSp>
        <p:nvCxnSpPr>
          <p:cNvPr id="485" name="AutoShape 89"/>
          <p:cNvCxnSpPr>
            <a:stCxn id="481" idx="3"/>
            <a:endCxn id="482" idx="1"/>
          </p:cNvCxnSpPr>
          <p:nvPr/>
        </p:nvCxnSpPr>
        <p:spPr>
          <a:xfrm>
            <a:off x="3504960" y="1663200"/>
            <a:ext cx="1213560" cy="108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  <p:cxnSp>
        <p:nvCxnSpPr>
          <p:cNvPr id="486" name="AutoShape 90"/>
          <p:cNvCxnSpPr>
            <a:stCxn id="482" idx="3"/>
            <a:endCxn id="483" idx="1"/>
          </p:cNvCxnSpPr>
          <p:nvPr/>
        </p:nvCxnSpPr>
        <p:spPr>
          <a:xfrm>
            <a:off x="5486040" y="1663200"/>
            <a:ext cx="1220040" cy="252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9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5aba9"/>
              </a:gs>
              <a:gs pos="100000">
                <a:srgbClr val="274f4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0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2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5aba9"/>
              </a:gs>
              <a:gs pos="100000">
                <a:srgbClr val="274f4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63118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4559400" y="31240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2819520" y="31240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>
            <a:off x="10540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99" name="Group 7"/>
          <p:cNvGrpSpPr/>
          <p:nvPr/>
        </p:nvGrpSpPr>
        <p:grpSpPr>
          <a:xfrm>
            <a:off x="1111680" y="1629720"/>
            <a:ext cx="6437160" cy="1388160"/>
            <a:chOff x="1111680" y="1629720"/>
            <a:chExt cx="6437160" cy="1388160"/>
          </a:xfrm>
        </p:grpSpPr>
        <p:sp>
          <p:nvSpPr>
            <p:cNvPr id="500" name="Rectangle 8"/>
            <p:cNvSpPr/>
            <p:nvPr/>
          </p:nvSpPr>
          <p:spPr>
            <a:xfrm rot="3418800">
              <a:off x="1321920" y="18550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f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1" name="Group 9"/>
            <p:cNvGrpSpPr/>
            <p:nvPr/>
          </p:nvGrpSpPr>
          <p:grpSpPr>
            <a:xfrm>
              <a:off x="2286360" y="2026800"/>
              <a:ext cx="931680" cy="131760"/>
              <a:chOff x="2286360" y="2026800"/>
              <a:chExt cx="931680" cy="131760"/>
            </a:xfrm>
          </p:grpSpPr>
          <p:sp>
            <p:nvSpPr>
              <p:cNvPr id="502" name="Oval 10"/>
              <p:cNvSpPr/>
              <p:nvPr/>
            </p:nvSpPr>
            <p:spPr>
              <a:xfrm>
                <a:off x="228636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3" name="Rectangle 11"/>
              <p:cNvSpPr/>
              <p:nvPr/>
            </p:nvSpPr>
            <p:spPr>
              <a:xfrm>
                <a:off x="237564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4" name="Oval 12"/>
              <p:cNvSpPr/>
              <p:nvPr/>
            </p:nvSpPr>
            <p:spPr>
              <a:xfrm>
                <a:off x="3076920" y="20289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5" name="Oval 13"/>
              <p:cNvSpPr/>
              <p:nvPr/>
            </p:nvSpPr>
            <p:spPr>
              <a:xfrm>
                <a:off x="3154680" y="20700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4"/>
            <p:cNvSpPr/>
            <p:nvPr/>
          </p:nvSpPr>
          <p:spPr>
            <a:xfrm rot="3418800">
              <a:off x="3042000" y="17884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7" name="Group 15"/>
            <p:cNvGrpSpPr/>
            <p:nvPr/>
          </p:nvGrpSpPr>
          <p:grpSpPr>
            <a:xfrm>
              <a:off x="4007880" y="2026800"/>
              <a:ext cx="931680" cy="131760"/>
              <a:chOff x="4007880" y="2026800"/>
              <a:chExt cx="931680" cy="131760"/>
            </a:xfrm>
          </p:grpSpPr>
          <p:sp>
            <p:nvSpPr>
              <p:cNvPr id="508" name="Oval 16"/>
              <p:cNvSpPr/>
              <p:nvPr/>
            </p:nvSpPr>
            <p:spPr>
              <a:xfrm>
                <a:off x="400788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9" name="Rectangle 17"/>
              <p:cNvSpPr/>
              <p:nvPr/>
            </p:nvSpPr>
            <p:spPr>
              <a:xfrm>
                <a:off x="409716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0" name="Oval 18"/>
              <p:cNvSpPr/>
              <p:nvPr/>
            </p:nvSpPr>
            <p:spPr>
              <a:xfrm>
                <a:off x="4798440" y="20289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1" name="Oval 19"/>
              <p:cNvSpPr/>
              <p:nvPr/>
            </p:nvSpPr>
            <p:spPr>
              <a:xfrm>
                <a:off x="4874400" y="20700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2" name="Rectangle 20"/>
            <p:cNvSpPr/>
            <p:nvPr/>
          </p:nvSpPr>
          <p:spPr>
            <a:xfrm rot="3418800">
              <a:off x="4692240" y="17884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f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13" name="Group 21"/>
            <p:cNvGrpSpPr/>
            <p:nvPr/>
          </p:nvGrpSpPr>
          <p:grpSpPr>
            <a:xfrm>
              <a:off x="5729040" y="2026800"/>
              <a:ext cx="1218240" cy="131760"/>
              <a:chOff x="5729040" y="2026800"/>
              <a:chExt cx="1218240" cy="131760"/>
            </a:xfrm>
          </p:grpSpPr>
          <p:sp>
            <p:nvSpPr>
              <p:cNvPr id="514" name="Oval 22"/>
              <p:cNvSpPr/>
              <p:nvPr/>
            </p:nvSpPr>
            <p:spPr>
              <a:xfrm>
                <a:off x="5729040" y="20268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5" name="Rectangle 23"/>
              <p:cNvSpPr/>
              <p:nvPr/>
            </p:nvSpPr>
            <p:spPr>
              <a:xfrm>
                <a:off x="5845680" y="20278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6" name="Oval 24"/>
              <p:cNvSpPr/>
              <p:nvPr/>
            </p:nvSpPr>
            <p:spPr>
              <a:xfrm>
                <a:off x="6762600" y="20289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7" name="Oval 25"/>
              <p:cNvSpPr/>
              <p:nvPr/>
            </p:nvSpPr>
            <p:spPr>
              <a:xfrm>
                <a:off x="6861960" y="20700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8" name="Rectangle 26"/>
            <p:cNvSpPr/>
            <p:nvPr/>
          </p:nvSpPr>
          <p:spPr>
            <a:xfrm rot="3418800">
              <a:off x="6413760" y="17892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19" name="Rectangle 27"/>
          <p:cNvSpPr/>
          <p:nvPr/>
        </p:nvSpPr>
        <p:spPr>
          <a:xfrm>
            <a:off x="144252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0" name="Rectangle 28"/>
          <p:cNvSpPr/>
          <p:nvPr/>
        </p:nvSpPr>
        <p:spPr>
          <a:xfrm>
            <a:off x="31950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1" name="Rectangle 29"/>
          <p:cNvSpPr/>
          <p:nvPr/>
        </p:nvSpPr>
        <p:spPr>
          <a:xfrm>
            <a:off x="47952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2" name="Rectangle 30"/>
          <p:cNvSpPr/>
          <p:nvPr/>
        </p:nvSpPr>
        <p:spPr>
          <a:xfrm>
            <a:off x="654804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3" name="Rectangle 31"/>
          <p:cNvSpPr/>
          <p:nvPr/>
        </p:nvSpPr>
        <p:spPr>
          <a:xfrm>
            <a:off x="14490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4" name="Rectangle 32"/>
          <p:cNvSpPr/>
          <p:nvPr/>
        </p:nvSpPr>
        <p:spPr>
          <a:xfrm>
            <a:off x="320148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5" name="Rectangle 33"/>
          <p:cNvSpPr/>
          <p:nvPr/>
        </p:nvSpPr>
        <p:spPr>
          <a:xfrm>
            <a:off x="495396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6" name="Rectangle 34"/>
          <p:cNvSpPr/>
          <p:nvPr/>
        </p:nvSpPr>
        <p:spPr>
          <a:xfrm>
            <a:off x="67068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685800" y="2038320"/>
          <a:ext cx="7620120" cy="36003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32767"/>
                      </a:solidFill>
                    </a:lnR>
                    <a:lnT>
                      <a:noFill/>
                    </a:lnT>
                    <a:lnB w="5760">
                      <a:solidFill>
                        <a:srgbClr val="1327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0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1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2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3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93ca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4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8719e"/>
                </a:gs>
                <a:gs pos="100000">
                  <a:srgbClr val="22a2e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5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b7dbd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6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7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9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0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1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2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5aba9">
                    <a:alpha val="19215"/>
                  </a:srgbClr>
                </a:gs>
                <a:gs pos="100000">
                  <a:srgbClr val="8ec7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3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6d976"/>
                </a:gs>
                <a:gs pos="100000">
                  <a:srgbClr val="dcca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4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7f7426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5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e9dd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6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7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767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4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5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6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cca42">
                    <a:alpha val="85098"/>
                  </a:srgbClr>
                </a:gs>
                <a:gs pos="100000">
                  <a:srgbClr val="8c80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7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a0933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58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60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1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2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3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85098"/>
                  </a:srgbClr>
                </a:gs>
                <a:gs pos="100000">
                  <a:srgbClr val="1667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4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1976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65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67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68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9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0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5aba9">
                    <a:alpha val="85098"/>
                  </a:srgbClr>
                </a:gs>
                <a:gs pos="100000">
                  <a:srgbClr val="366d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1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3e7c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72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74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5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6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7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1cfeb">
                    <a:alpha val="85098"/>
                  </a:srgbClr>
                </a:gs>
                <a:gs pos="100000">
                  <a:srgbClr val="5284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8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5e96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79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1828800" y="1871640"/>
            <a:ext cx="762120" cy="665280"/>
            <a:chOff x="1828800" y="187164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834920" y="1882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828800" y="1871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873080" y="19112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74f4e"/>
                </a:gs>
                <a:gs pos="100000">
                  <a:srgbClr val="55aba9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828800" y="2786040"/>
            <a:ext cx="761760" cy="665280"/>
            <a:chOff x="1828800" y="278604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834920" y="27972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828800" y="2786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873080" y="28256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438280" y="24811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508560" y="19479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027520" y="196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438280" y="33955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508560" y="28623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027520" y="288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828800" y="3678120"/>
            <a:ext cx="762120" cy="665280"/>
            <a:chOff x="1828800" y="3678120"/>
            <a:chExt cx="762120" cy="665280"/>
          </a:xfrm>
        </p:grpSpPr>
        <p:sp>
          <p:nvSpPr>
            <p:cNvPr id="111" name="AutoShape 18"/>
            <p:cNvSpPr/>
            <p:nvPr/>
          </p:nvSpPr>
          <p:spPr>
            <a:xfrm>
              <a:off x="1834920" y="3689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828800" y="36781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873080" y="37177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74f4e"/>
                </a:gs>
                <a:gs pos="100000">
                  <a:srgbClr val="55aba9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828800" y="4592520"/>
            <a:ext cx="761760" cy="665280"/>
            <a:chOff x="1828800" y="4592520"/>
            <a:chExt cx="761760" cy="665280"/>
          </a:xfrm>
        </p:grpSpPr>
        <p:sp>
          <p:nvSpPr>
            <p:cNvPr id="115" name="AutoShape 22"/>
            <p:cNvSpPr/>
            <p:nvPr/>
          </p:nvSpPr>
          <p:spPr>
            <a:xfrm>
              <a:off x="1834920" y="46036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828800" y="45925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873080" y="46321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438280" y="4287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508560" y="37544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027520" y="377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438280" y="5202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508560" y="46688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027520" y="4691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3"/>
          <p:cNvSpPr txBox="1"/>
          <p:nvPr/>
        </p:nvSpPr>
        <p:spPr>
          <a:xfrm>
            <a:off x="2133720" y="16765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2a2e2"/>
                    </a:gs>
                    <a:gs pos="100000">
                      <a:srgbClr val="132767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2a2e2"/>
                  </a:gs>
                  <a:gs pos="100000">
                    <a:srgbClr val="132767"/>
                  </a:gs>
                </a:gsLst>
                <a:lin ang="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1187280" y="254304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767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56272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4300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3840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322272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b9e1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 flipH="1">
            <a:off x="4869000" y="310032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2" name="Freeform 10"/>
          <p:cNvSpPr/>
          <p:nvPr/>
        </p:nvSpPr>
        <p:spPr>
          <a:xfrm flipH="1">
            <a:off x="487440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b9e1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3048120" y="1476360"/>
            <a:ext cx="2998440" cy="1600920"/>
            <a:chOff x="3048120" y="1476360"/>
            <a:chExt cx="2998440" cy="1600920"/>
          </a:xfrm>
        </p:grpSpPr>
        <p:grpSp>
          <p:nvGrpSpPr>
            <p:cNvPr id="134" name="Group 12"/>
            <p:cNvGrpSpPr/>
            <p:nvPr/>
          </p:nvGrpSpPr>
          <p:grpSpPr>
            <a:xfrm>
              <a:off x="3048120" y="1618920"/>
              <a:ext cx="2998440" cy="1458360"/>
              <a:chOff x="3048120" y="1618920"/>
              <a:chExt cx="2998440" cy="1458360"/>
            </a:xfrm>
          </p:grpSpPr>
          <p:sp>
            <p:nvSpPr>
              <p:cNvPr id="135" name="Oval 13"/>
              <p:cNvSpPr/>
              <p:nvPr/>
            </p:nvSpPr>
            <p:spPr>
              <a:xfrm>
                <a:off x="3080880" y="16653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55aba9"/>
                  </a:gs>
                  <a:gs pos="100000">
                    <a:srgbClr val="2953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048120" y="161892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4dad9"/>
                  </a:gs>
                  <a:gs pos="100000">
                    <a:srgbClr val="55aba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137" name="Oval 15"/>
            <p:cNvSpPr/>
            <p:nvPr/>
          </p:nvSpPr>
          <p:spPr>
            <a:xfrm>
              <a:off x="3189600" y="147636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24520" y="148392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0"/>
                  </a:srgbClr>
                </a:gs>
                <a:gs pos="100000">
                  <a:srgbClr val="b2df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3251520" y="149688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1b80b3"/>
                </a:gs>
                <a:gs pos="100000">
                  <a:srgbClr val="22a2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3383280" y="152388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2a2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41" name="Text Box 19"/>
          <p:cNvSpPr/>
          <p:nvPr/>
        </p:nvSpPr>
        <p:spPr>
          <a:xfrm>
            <a:off x="3882960" y="16765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24"/>
          <p:cNvGrpSpPr/>
          <p:nvPr/>
        </p:nvGrpSpPr>
        <p:grpSpPr>
          <a:xfrm>
            <a:off x="380880" y="1488240"/>
            <a:ext cx="8129880" cy="5086440"/>
            <a:chOff x="380880" y="1488240"/>
            <a:chExt cx="8129880" cy="5086440"/>
          </a:xfrm>
        </p:grpSpPr>
        <p:sp>
          <p:nvSpPr>
            <p:cNvPr id="145" name="Freeform 4"/>
            <p:cNvSpPr/>
            <p:nvPr/>
          </p:nvSpPr>
          <p:spPr>
            <a:xfrm rot="20241600">
              <a:off x="1079280" y="2685960"/>
              <a:ext cx="6761160" cy="269100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 rot="20056200">
              <a:off x="4479480" y="254592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 rot="20056200">
              <a:off x="7313040" y="279036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 rot="20056200">
              <a:off x="2801520" y="5670000"/>
              <a:ext cx="1184040" cy="338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 rot="20056200">
              <a:off x="5585760" y="5060880"/>
              <a:ext cx="118296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 rot="20056200">
              <a:off x="1928160" y="4037040"/>
              <a:ext cx="11844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3774960" y="1860480"/>
              <a:ext cx="1268280" cy="12222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1d3b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1295280" y="3322440"/>
              <a:ext cx="1265040" cy="122256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0b33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2165040" y="4949640"/>
              <a:ext cx="1265400" cy="122256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2e4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4903560" y="4344840"/>
              <a:ext cx="1266840" cy="12225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6707160" y="2079720"/>
              <a:ext cx="1197000" cy="122364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4c46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1554840" y="376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4109040" y="2298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7004880" y="2565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239440" y="478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2454840" y="5381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3340080" y="3635280"/>
              <a:ext cx="25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32767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422440" y="2298600"/>
              <a:ext cx="1805040" cy="13892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cxnSp>
          <p:nvCxnSpPr>
            <p:cNvPr id="163" name="AutoShape 22"/>
            <p:cNvCxnSpPr/>
            <p:nvPr/>
          </p:nvCxnSpPr>
          <p:spPr>
            <a:xfrm flipH="1">
              <a:off x="520200" y="2298240"/>
              <a:ext cx="1915200" cy="1080"/>
            </a:xfrm>
            <a:prstGeom prst="straightConnector1">
              <a:avLst/>
            </a:prstGeom>
            <a:ln w="9360">
              <a:solidFill>
                <a:srgbClr val="132767"/>
              </a:solidFill>
              <a:miter/>
            </a:ln>
          </p:spPr>
        </p:cxnSp>
        <p:sp>
          <p:nvSpPr>
            <p:cNvPr id="164" name="Text Box 23"/>
            <p:cNvSpPr/>
            <p:nvPr/>
          </p:nvSpPr>
          <p:spPr>
            <a:xfrm>
              <a:off x="380880" y="1860480"/>
              <a:ext cx="22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74f4e"/>
              </a:gs>
              <a:gs pos="50000">
                <a:srgbClr val="55aba9"/>
              </a:gs>
              <a:gs pos="100000">
                <a:srgbClr val="274f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86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0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1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5aba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2e5d5b"/>
                </a:gs>
                <a:gs pos="50000">
                  <a:srgbClr val="55aba9"/>
                </a:gs>
                <a:gs pos="100000">
                  <a:srgbClr val="2e5d5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95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1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6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457200" y="144792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76212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76212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6212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4:47Z</dcterms:created>
  <dc:creator>Admin</dc:creator>
  <dc:description/>
  <dc:language>en-US</dc:language>
  <cp:lastModifiedBy>Anh Hung Pro</cp:lastModifiedBy>
  <dcterms:modified xsi:type="dcterms:W3CDTF">2016-09-08T14:58:29Z</dcterms:modified>
  <cp:revision>2</cp:revision>
  <dc:subject/>
  <dc:title>PowerPoint Template</dc:title>
</cp:coreProperties>
</file>